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F6B-E7C4-47F3-A06D-F9DCD46D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476-6B26-4448-8CFB-174BAAE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55F-EF97-4C47-A9D0-70379FC6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EF7-9204-4C0D-A6E3-20C6A160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537-6526-460A-8CCE-A25382E6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EAC5-2032-4161-BA8E-3E3AF2AD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D5C2-A15F-448C-A3D8-C8BFA7A7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7501-D3E2-459B-9698-A02453B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E86-732F-431A-8966-EAEC8213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4E2A-18C8-441B-AF96-3D244241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91E-168A-41AE-A6DC-426763D0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83F-4C0A-4178-BCBA-E45AC97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CA5-A10B-4FBD-B558-BA76EF5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2125-9C42-44A3-8738-5F4EFF5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6FA0-0FE0-43B2-B32D-E3E681F7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EE8F-1867-48D5-94C3-EAC13ADE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7D62-3219-4AB8-8E88-9E93314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2FA-C1D7-461E-8576-C5F11FB2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22C-7A8F-449F-9424-7087C360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D95-2DAE-428F-B12A-73654E1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7F3-DDC3-4DFD-8AD3-2E637878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4D9-963D-4E69-AFD7-F00E7D5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613-F2B9-4D8A-AB59-2DB931E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C63-7ACB-40FD-9E84-97B0DF5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41B5C-A7BC-42EF-B9AA-D6D8D54D4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809D49-5C8F-4C75-BBC8-480F871CA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erodes.feld.cvut.cz/mereni/dema/komora/" TargetMode="External"/><Relationship Id="rId2" Type="http://schemas.openxmlformats.org/officeDocument/2006/relationships/hyperlink" Target="http://herodes.feld.cvut.cz/mereni/dema/komora/" TargetMode="External"/><Relationship Id="rId3" Type="http://schemas.openxmlformats.org/officeDocument/2006/relationships/hyperlink" Target="http://herodes.feld.cvut.cz/mereni/dema/komora/" TargetMode="External"/><Relationship Id="rId4" Type="http://schemas.openxmlformats.org/officeDocument/2006/relationships/hyperlink" Target="http://herodes.feld.cvut.cz/mereni/dema/komora/" TargetMode="External"/><Relationship Id="rId5" Type="http://schemas.openxmlformats.org/officeDocument/2006/relationships/hyperlink" Target="http://herodes.feld.cvut.cz/mereni/dema/komora/" TargetMode="External"/><Relationship Id="rId6" Type="http://schemas.openxmlformats.org/officeDocument/2006/relationships/hyperlink" Target="http://herodes.feld.cvut.cz/mereni/dema/komora/" TargetMode="External"/><Relationship Id="rId7" Type="http://schemas.openxmlformats.org/officeDocument/2006/relationships/hyperlink" Target="http://herodes.feld.cvut.cz/mereni/dema/komora/" TargetMode="External"/><Relationship Id="rId8" Type="http://schemas.openxmlformats.org/officeDocument/2006/relationships/hyperlink" Target="http://herodes.feld.cvut.cz/mereni/dema/komora/" TargetMode="External"/><Relationship Id="rId9" Type="http://schemas.openxmlformats.org/officeDocument/2006/relationships/hyperlink" Target="http://herodes.feld.cvut.cz/mereni/dema/komora/" TargetMode="External"/><Relationship Id="rId10" Type="http://schemas.openxmlformats.org/officeDocument/2006/relationships/hyperlink" Target="http://herodes.feld.cvut.cz/mereni/dema/komora/" TargetMode="External"/><Relationship Id="rId11" Type="http://schemas.openxmlformats.org/officeDocument/2006/relationships/hyperlink" Target="http://herodes.feld.cvut.cz/mereni/dema/komora/" TargetMode="External"/><Relationship Id="rId12" Type="http://schemas.openxmlformats.org/officeDocument/2006/relationships/hyperlink" Target="http://herodes.feld.cvut.cz/mereni/dema/komora/" TargetMode="External"/><Relationship Id="rId13" Type="http://schemas.openxmlformats.org/officeDocument/2006/relationships/hyperlink" Target="http://herodes.feld.cvut.cz/mereni/dema/komora/" TargetMode="External"/><Relationship Id="rId14" Type="http://schemas.openxmlformats.org/officeDocument/2006/relationships/hyperlink" Target="http://www-outreach.phy.cam.ac.uk/camphy/index.htm" TargetMode="External"/><Relationship Id="rId15" Type="http://schemas.openxmlformats.org/officeDocument/2006/relationships/hyperlink" Target="http://www-outreach.phy.cam.ac.uk/camphy/index.htm" TargetMode="External"/><Relationship Id="rId16" Type="http://schemas.openxmlformats.org/officeDocument/2006/relationships/hyperlink" Target="http://www-outreach.phy.cam.ac.uk/camphy/index.htm" TargetMode="External"/><Relationship Id="rId17" Type="http://schemas.openxmlformats.org/officeDocument/2006/relationships/hyperlink" Target="http://www-outreach.phy.cam.ac.uk/camphy/index.htm" TargetMode="External"/><Relationship Id="rId18" Type="http://schemas.openxmlformats.org/officeDocument/2006/relationships/hyperlink" Target="http://www-outreach.phy.cam.ac.uk/camphy/index.htm" TargetMode="External"/><Relationship Id="rId19" Type="http://schemas.openxmlformats.org/officeDocument/2006/relationships/hyperlink" Target="http://www-outreach.phy.cam.ac.uk/camphy/index.htm" TargetMode="External"/><Relationship Id="rId20" Type="http://schemas.openxmlformats.org/officeDocument/2006/relationships/hyperlink" Target="http://www-outreach.phy.cam.ac.uk/camphy/index.htm" TargetMode="External"/><Relationship Id="rId21" Type="http://schemas.openxmlformats.org/officeDocument/2006/relationships/hyperlink" Target="http://www-outreach.phy.cam.ac.uk/camphy/index.htm" TargetMode="External"/><Relationship Id="rId22" Type="http://schemas.openxmlformats.org/officeDocument/2006/relationships/hyperlink" Target="http://www-outreach.phy.cam.ac.uk/camphy/index.htm" TargetMode="External"/><Relationship Id="rId23" Type="http://schemas.openxmlformats.org/officeDocument/2006/relationships/hyperlink" Target="http://www-outreach.phy.cam.ac.uk/camphy/index.htm" TargetMode="External"/><Relationship Id="rId24" Type="http://schemas.openxmlformats.org/officeDocument/2006/relationships/hyperlink" Target="http://www-outreach.phy.cam.ac.uk/camphy/index.htm" TargetMode="External"/><Relationship Id="rId25" Type="http://schemas.openxmlformats.org/officeDocument/2006/relationships/hyperlink" Target="http://www-outreach.phy.cam.ac.uk/camphy/index.htm" TargetMode="External"/><Relationship Id="rId26" Type="http://schemas.openxmlformats.org/officeDocument/2006/relationships/hyperlink" Target="http://www-outreach.phy.cam.ac.uk/camphy/index.htm" TargetMode="External"/><Relationship Id="rId27" Type="http://schemas.openxmlformats.org/officeDocument/2006/relationships/hyperlink" Target="http://www-outreach.phy.cam.ac.uk/camphy/index.htm" TargetMode="External"/><Relationship Id="rId28" Type="http://schemas.openxmlformats.org/officeDocument/2006/relationships/hyperlink" Target="http://fyzweb.cuni.cz/dilna/vyvoj/mlzna/index.htm" TargetMode="External"/><Relationship Id="rId29" Type="http://schemas.openxmlformats.org/officeDocument/2006/relationships/hyperlink" Target="http://fyzweb.cuni.cz/dilna/vyvoj/mlzna/index.htm" TargetMode="External"/><Relationship Id="rId30" Type="http://schemas.openxmlformats.org/officeDocument/2006/relationships/hyperlink" Target="http://fyzweb.cuni.cz/dilna/vyvoj/mlzna/index.htm" TargetMode="External"/><Relationship Id="rId31" Type="http://schemas.openxmlformats.org/officeDocument/2006/relationships/hyperlink" Target="http://fyzweb.cuni.cz/dilna/vyvoj/mlzna/index.htm" TargetMode="External"/><Relationship Id="rId32" Type="http://schemas.openxmlformats.org/officeDocument/2006/relationships/hyperlink" Target="http://fyzweb.cuni.cz/dilna/vyvoj/mlzna/index.htm" TargetMode="External"/><Relationship Id="rId33" Type="http://schemas.openxmlformats.org/officeDocument/2006/relationships/hyperlink" Target="http://fyzweb.cuni.cz/dilna/vyvoj/mlzna/index.htm" TargetMode="External"/><Relationship Id="rId34" Type="http://schemas.openxmlformats.org/officeDocument/2006/relationships/hyperlink" Target="http://fyzweb.cuni.cz/dilna/vyvoj/mlzna/index.htm" TargetMode="External"/><Relationship Id="rId35" Type="http://schemas.openxmlformats.org/officeDocument/2006/relationships/hyperlink" Target="http://fyzweb.cuni.cz/dilna/vyvoj/mlzna/index.htm" TargetMode="External"/><Relationship Id="rId36" Type="http://schemas.openxmlformats.org/officeDocument/2006/relationships/hyperlink" Target="http://fyzweb.cuni.cz/dilna/vyvoj/mlzna/index.htm" TargetMode="External"/><Relationship Id="rId37" Type="http://schemas.openxmlformats.org/officeDocument/2006/relationships/hyperlink" Target="http://fyzweb.cuni.cz/dilna/vyvoj/mlzna/index.htm" TargetMode="External"/><Relationship Id="rId38" Type="http://schemas.openxmlformats.org/officeDocument/2006/relationships/hyperlink" Target="http://fyzweb.cuni.cz/dilna/vyvoj/mlzna/index.htm" TargetMode="External"/><Relationship Id="rId39" Type="http://schemas.openxmlformats.org/officeDocument/2006/relationships/hyperlink" Target="http://fyzweb.cuni.cz/dilna/vyvoj/mlzna/index.htm" TargetMode="External"/><Relationship Id="rId40" Type="http://schemas.openxmlformats.org/officeDocument/2006/relationships/hyperlink" Target="http://fyzweb.cuni.cz/dilna/vyvoj/mlzna/index.htm" TargetMode="External"/><Relationship Id="rId41" Type="http://schemas.openxmlformats.org/officeDocument/2006/relationships/hyperlink" Target="http://fyzweb.cuni.cz/dilna/vyvoj/mlzna/index.htm" TargetMode="External"/><Relationship Id="rId42" Type="http://schemas.openxmlformats.org/officeDocument/2006/relationships/hyperlink" Target="http://fyztyd.fjfi.cvut.cz/2007/cd/MFR/mfr-mlzkom.pdf" TargetMode="External"/><Relationship Id="rId43" Type="http://schemas.openxmlformats.org/officeDocument/2006/relationships/hyperlink" Target="http://fyztyd.fjfi.cvut.cz/2007/cd/MFR/mfr-mlzkom.pdf" TargetMode="External"/><Relationship Id="rId44" Type="http://schemas.openxmlformats.org/officeDocument/2006/relationships/hyperlink" Target="http://fyztyd.fjfi.cvut.cz/2007/cd/MFR/mfr-mlzkom.pdf" TargetMode="External"/><Relationship Id="rId45" Type="http://schemas.openxmlformats.org/officeDocument/2006/relationships/hyperlink" Target="http://fyztyd.fjfi.cvut.cz/2007/cd/MFR/mfr-mlzkom.pdf" TargetMode="External"/><Relationship Id="rId46" Type="http://schemas.openxmlformats.org/officeDocument/2006/relationships/hyperlink" Target="http://fyztyd.fjfi.cvut.cz/2007/cd/MFR/mfr-mlzkom.pdf" TargetMode="External"/><Relationship Id="rId47" Type="http://schemas.openxmlformats.org/officeDocument/2006/relationships/hyperlink" Target="http://fyztyd.fjfi.cvut.cz/2007/cd/MFR/mfr-mlzkom.pdf" TargetMode="External"/><Relationship Id="rId48" Type="http://schemas.openxmlformats.org/officeDocument/2006/relationships/hyperlink" Target="http://fyztyd.fjfi.cvut.cz/2007/cd/MFR/mfr-mlzkom.pdf" TargetMode="External"/><Relationship Id="rId49" Type="http://schemas.openxmlformats.org/officeDocument/2006/relationships/hyperlink" Target="http://fyztyd.fjfi.cvut.cz/2007/cd/MFR/mfr-mlzkom.pdf" TargetMode="External"/><Relationship Id="rId50" Type="http://schemas.openxmlformats.org/officeDocument/2006/relationships/hyperlink" Target="http://fyztyd.fjfi.cvut.cz/2007/cd/MFR/mfr-mlzkom.pdf" TargetMode="External"/><Relationship Id="rId51" Type="http://schemas.openxmlformats.org/officeDocument/2006/relationships/hyperlink" Target="http://fyztyd.fjfi.cvut.cz/2007/cd/MFR/mfr-mlzkom.pdf" TargetMode="External"/><Relationship Id="rId52" Type="http://schemas.openxmlformats.org/officeDocument/2006/relationships/hyperlink" Target="http://fyztyd.fjfi.cvut.cz/2007/cd/MFR/mfr-mlzkom.pdf" TargetMode="External"/><Relationship Id="rId53" Type="http://schemas.openxmlformats.org/officeDocument/2006/relationships/hyperlink" Target="http://fyztyd.fjfi.cvut.cz/2007/cd/MFR/mfr-mlzkom.pdf" TargetMode="External"/><Relationship Id="rId54" Type="http://schemas.openxmlformats.org/officeDocument/2006/relationships/hyperlink" Target="http://fyztyd.fjfi.cvut.cz/2007/cd/MFR/mfr-mlzkom.pdf" TargetMode="External"/><Relationship Id="rId55" Type="http://schemas.openxmlformats.org/officeDocument/2006/relationships/hyperlink" Target="http://fyztyd.fjfi.cvut.cz/2007/cd/MFR/mfr-mlzkom.pdf" TargetMode="External"/><Relationship Id="rId56" Type="http://schemas.openxmlformats.org/officeDocument/2006/relationships/hyperlink" Target="http://cs.wikipedia.org/wiki/Wilsonova_ml&#382;n&#225;_komora" TargetMode="External"/><Relationship Id="rId57" Type="http://schemas.openxmlformats.org/officeDocument/2006/relationships/hyperlink" Target="http://cs.wikipedia.org/wiki/Wilsonova_ml&#382;n&#225;_komora" TargetMode="External"/><Relationship Id="rId58" Type="http://schemas.openxmlformats.org/officeDocument/2006/relationships/hyperlink" Target="http://cs.wikipedia.org/wiki/Wilsonova_ml&#382;n&#225;_komora" TargetMode="External"/><Relationship Id="rId59" Type="http://schemas.openxmlformats.org/officeDocument/2006/relationships/hyperlink" Target="http://cs.wikipedia.org/wiki/Wilsonova_ml&#382;n&#225;_komora" TargetMode="External"/><Relationship Id="rId60" Type="http://schemas.openxmlformats.org/officeDocument/2006/relationships/hyperlink" Target="http://cs.wikipedia.org/wiki/Wilsonova_ml&#382;n&#225;_komora" TargetMode="External"/><Relationship Id="rId61" Type="http://schemas.openxmlformats.org/officeDocument/2006/relationships/hyperlink" Target="http://cs.wikipedia.org/wiki/Wilsonova_ml&#382;n&#225;_komora" TargetMode="External"/><Relationship Id="rId62" Type="http://schemas.openxmlformats.org/officeDocument/2006/relationships/hyperlink" Target="http://cs.wikipedia.org/wiki/Wilsonova_ml&#382;n&#225;_komora" TargetMode="External"/><Relationship Id="rId63" Type="http://schemas.openxmlformats.org/officeDocument/2006/relationships/hyperlink" Target="http://cs.wikipedia.org/wiki/Wilsonova_ml&#382;n&#225;_komora" TargetMode="External"/><Relationship Id="rId64" Type="http://schemas.openxmlformats.org/officeDocument/2006/relationships/slideLayout" Target="../slideLayouts/slideLayout3.xml"/><Relationship Id="rId6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688760"/>
            <a:ext cx="5614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400" spc="-1" strike="noStrike">
                <a:solidFill>
                  <a:srgbClr val="000204"/>
                </a:solidFill>
                <a:latin typeface="Arial"/>
              </a:rPr>
              <a:t>Difúzní mlžná komor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03280" y="3886200"/>
            <a:ext cx="774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Viktor Löffelmann, Kateřina Vl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204"/>
                </a:solidFill>
                <a:latin typeface="Arial"/>
                <a:ea typeface="Arial"/>
              </a:rPr>
              <a:t>Částice, které můžeme pozorov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48428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  <a:ea typeface="Arial"/>
              </a:rPr>
              <a:t>- </a:t>
            </a:r>
            <a:r>
              <a:rPr b="0" lang="el-GR" sz="2800" spc="-1" strike="noStrike">
                <a:solidFill>
                  <a:srgbClr val="000204"/>
                </a:solidFill>
                <a:latin typeface="Arial"/>
                <a:ea typeface="Arial"/>
              </a:rPr>
              <a:t>γ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  <a:ea typeface="Arial"/>
              </a:rPr>
              <a:t> záření - elektromagnetické záření, fot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  <a:ea typeface="Arial"/>
              </a:rPr>
              <a:t>    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  <a:ea typeface="Arial"/>
              </a:rPr>
              <a:t>- elektricky neutrální, nevytvářejí st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  <a:ea typeface="Arial"/>
              </a:rPr>
              <a:t>    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  <a:ea typeface="Arial"/>
              </a:rPr>
              <a:t>- pozorujeme sekundární jev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527280" cy="3006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88944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204"/>
                </a:solidFill>
                <a:latin typeface="Arial"/>
              </a:rPr>
              <a:t>Přirozené záření X radioaktivní ply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61440" y="6308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8ae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319640" y="3249720"/>
            <a:ext cx="4824360" cy="3608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788000" cy="381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50880" y="623736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204"/>
                </a:solidFill>
                <a:latin typeface="Arial"/>
              </a:rPr>
              <a:t>Přirozené záření pozad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3960" y="1773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204"/>
                </a:solidFill>
                <a:latin typeface="Arial"/>
              </a:rPr>
              <a:t>Po vpuštění radioaktivního ply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Princip difúzní mlžné kom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1996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5320" y="847800"/>
            <a:ext cx="789480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Odkazy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204"/>
                </a:solidFill>
                <a:latin typeface="Arial"/>
              </a:rPr>
              <a:t>[1]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erodes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feld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vut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cz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ereni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dema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komor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204"/>
                </a:solidFill>
                <a:latin typeface="Arial"/>
              </a:rPr>
              <a:t>[2] 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-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outreach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phy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ca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ac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uk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camphy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/index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m</a:t>
            </a:r>
            <a:r>
              <a:rPr b="0" lang="cs-CZ" sz="1800" spc="-1" strike="noStrike">
                <a:solidFill>
                  <a:srgbClr val="0002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204"/>
                </a:solidFill>
                <a:latin typeface="Arial"/>
              </a:rPr>
              <a:t>[3] 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fyzweb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cun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5"/>
              </a:rPr>
              <a:t>dilna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6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7"/>
              </a:rPr>
              <a:t>vyvoj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8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9"/>
              </a:rPr>
              <a:t>mlzna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0"/>
              </a:rPr>
              <a:t>/index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1"/>
              </a:rPr>
              <a:t>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204"/>
                </a:solidFill>
                <a:latin typeface="Arial"/>
              </a:rPr>
              <a:t>[4] 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2"/>
              </a:rPr>
              <a:t>http:/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3"/>
              </a:rPr>
              <a:t>fyztyd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4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5"/>
              </a:rPr>
              <a:t>fjf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6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7"/>
              </a:rPr>
              <a:t>cvut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8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9"/>
              </a:rPr>
              <a:t>cz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0"/>
              </a:rPr>
              <a:t>/2007/cd/MFR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1"/>
              </a:rPr>
              <a:t>mfr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2"/>
              </a:rPr>
              <a:t>-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3"/>
              </a:rPr>
              <a:t>mlzko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4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5"/>
              </a:rPr>
              <a:t>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204"/>
                </a:solidFill>
                <a:latin typeface="Arial"/>
              </a:rPr>
              <a:t>[5] 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6"/>
              </a:rPr>
              <a:t>http:/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7"/>
              </a:rPr>
              <a:t>cs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8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9"/>
              </a:rPr>
              <a:t>wikipedia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0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1"/>
              </a:rPr>
              <a:t>org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2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3"/>
              </a:rPr>
              <a:t>wiki</a:t>
            </a:r>
            <a:r>
              <a:rPr b="0" lang="cs-CZ" sz="1800" spc="-1" strike="noStrike">
                <a:solidFill>
                  <a:srgbClr val="ccccff"/>
                </a:solidFill>
                <a:latin typeface="Arial"/>
              </a:rPr>
              <a:t>/Wilsonova_ml%C5%BEn%C3%A1_komor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Co nás čeká a nem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Hist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Kondenzace p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Princip mlžné ko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Částice, které můžeme pozorov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Konstrukce mlžné ko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Odk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204"/>
                </a:solidFill>
                <a:latin typeface="Arial"/>
              </a:rPr>
              <a:t>Histori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  <a:ea typeface="Arial"/>
              </a:rPr>
              <a:t>1911 vynalezena C. T. R. Wilson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  <a:ea typeface="Arial"/>
              </a:rPr>
              <a:t>1. tzv. expanzní kom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  <a:ea typeface="Arial"/>
              </a:rPr>
              <a:t>1936 vynalezena Langsfor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  <a:ea typeface="Arial"/>
              </a:rPr>
              <a:t>2. tzv. difúzní kom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  <a:ea typeface="Arial"/>
              </a:rPr>
              <a:t>Detekce částic = takřka nul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  <a:ea typeface="Arial"/>
              </a:rPr>
              <a:t>Demonstrace různých pokus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Částice, které můžeme pozorov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204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 částice - jádra hé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- široké krátké st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272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Kondenzace p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68ae"/>
                </a:solidFill>
                <a:latin typeface="Arial"/>
              </a:rPr>
              <a:t>-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tzv. teplota rosného bodu → nasycené pá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tzv. kondenzační páry →  přesycené pá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Kondenzační jádra – prachové částice, krystaly solí, pylové částice, ionty</a:t>
            </a: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Částice s elektrickým nábojem → přímo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ionizující zář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Částice bez el. náboje → sekundární jev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Částice, které můžeme pozorov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000204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částice - </a:t>
            </a:r>
            <a:r>
              <a:rPr b="0" lang="el-GR" sz="2800" spc="-1" strike="noStrike">
                <a:solidFill>
                  <a:srgbClr val="000204"/>
                </a:solidFill>
                <a:latin typeface="Arial"/>
              </a:rPr>
              <a:t>β</a:t>
            </a:r>
            <a:r>
              <a:rPr b="0" lang="cs-CZ" sz="2800" spc="-1" strike="noStrike" baseline="30000">
                <a:solidFill>
                  <a:srgbClr val="000204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- elektr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</a:t>
            </a:r>
            <a:r>
              <a:rPr b="0" lang="el-GR" sz="2800" spc="-1" strike="noStrike">
                <a:solidFill>
                  <a:srgbClr val="000204"/>
                </a:solidFill>
                <a:latin typeface="Arial"/>
              </a:rPr>
              <a:t>β</a:t>
            </a:r>
            <a:r>
              <a:rPr b="0" lang="cs-CZ" sz="2800" spc="-1" strike="noStrike" baseline="30000">
                <a:solidFill>
                  <a:srgbClr val="000204"/>
                </a:solidFill>
                <a:latin typeface="Arial"/>
              </a:rPr>
              <a:t>+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pozitr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úzké st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produkty rozpadu nukleonů, mionů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sekundární projevy sráž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l-GR" sz="4400" spc="-1" strike="noStrike">
                <a:solidFill>
                  <a:srgbClr val="000204"/>
                </a:solidFill>
                <a:latin typeface="Arial"/>
              </a:rPr>
              <a:t>β</a:t>
            </a: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 čás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462200" cy="3129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3008160" cy="3201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400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204"/>
                </a:solidFill>
                <a:latin typeface="Arial"/>
              </a:rPr>
              <a:t>Dráha nízkoenergetického elektronu. Kvůli své nízké hmotnosti a nízké energii se snadno odráží od okolních částic, čímž vzniká zakřivená drá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276720"/>
            <a:ext cx="304560" cy="304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3276720"/>
            <a:ext cx="304560" cy="30456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204"/>
                </a:solidFill>
                <a:latin typeface="Arial"/>
              </a:rPr>
              <a:t>Částice, které můžeme pozorov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Protony - široké stopy (delší než </a:t>
            </a:r>
            <a:r>
              <a:rPr b="0" lang="el-GR" sz="3200" spc="-1" strike="noStrike">
                <a:solidFill>
                  <a:srgbClr val="000204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 čás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0204"/>
                </a:solidFill>
                <a:latin typeface="Arial"/>
              </a:rPr>
              <a:t>- kosmické zá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63640" y="3500280"/>
            <a:ext cx="5272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204"/>
                </a:solidFill>
                <a:latin typeface="Arial"/>
              </a:rPr>
              <a:t>Částice, které můžeme pozorov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68ae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Miony - „těžké“ lept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doba života asi 2 μ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- rozpad: elektron, neutrino a antineutr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              </a:t>
            </a:r>
            <a:r>
              <a:rPr b="0" lang="cs-CZ" sz="2800" spc="-1" strike="noStrike">
                <a:solidFill>
                  <a:srgbClr val="000204"/>
                </a:solidFill>
                <a:latin typeface="Arial"/>
              </a:rPr>
              <a:t>(nejsou pozorovatelná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770544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37:39Z</dcterms:created>
  <dc:creator>Radek Černý</dc:creator>
  <dc:description/>
  <dc:language>en-US</dc:language>
  <cp:lastModifiedBy>Kačika</cp:lastModifiedBy>
  <dcterms:modified xsi:type="dcterms:W3CDTF">2009-11-27T19:58:23Z</dcterms:modified>
  <cp:revision>39</cp:revision>
  <dc:subject/>
  <dc:title>Fyzika rotačních těles</dc:title>
</cp:coreProperties>
</file>